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FC31-39A6-4C36-9360-24D15E65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hap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97D-5046-4934-A105-980D5129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640-28DB-4BF5-A5D8-A6EB699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182-AD09-4429-ADE1-AAF8DF1C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5E4-697B-4FC6-A75E-EAA0D713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004-E27D-4CB3-BBA1-4F91D42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494-397B-45B7-A552-A4A0528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3C9-66AE-490B-9F3A-28F6DB2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04A-2E76-47A5-B190-3674F74C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8FC-B984-4BA3-9699-5941E22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2E0-1BB7-461C-9867-CC91228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D7F-382F-4C7B-8AC4-97EA9BD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CEB-FF79-4DCF-848F-6BD3800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B85-4F3E-4B86-80E5-D30504FC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eb.mit.edu/invent/iow/rees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10280" y="4952880"/>
            <a:ext cx="2133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M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Computer# 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1676520"/>
            <a:ext cx="2362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ese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nut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 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208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13598" t="41454" r="63240" b="21910"/>
          <a:stretch/>
        </p:blipFill>
        <p:spPr>
          <a:xfrm>
            <a:off x="0" y="4800600"/>
            <a:ext cx="1922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676520" cy="12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Reese"/>
          <p:cNvPicPr/>
          <p:nvPr/>
        </p:nvPicPr>
        <p:blipFill>
          <a:blip r:embed="rId2"/>
          <a:stretch/>
        </p:blipFill>
        <p:spPr>
          <a:xfrm>
            <a:off x="2209680" y="0"/>
            <a:ext cx="533412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Reese"/>
          <p:cNvPicPr/>
          <p:nvPr/>
        </p:nvPicPr>
        <p:blipFill>
          <a:blip r:embed="rId3"/>
          <a:stretch/>
        </p:blipFill>
        <p:spPr>
          <a:xfrm>
            <a:off x="0" y="3352680"/>
            <a:ext cx="2206800" cy="32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4565520"/>
            <a:ext cx="4191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melsons MIT Program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Reese Peanut Butter Cu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anuary 11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rees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895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ese’s is a very good choco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Invention: Reese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 chocolate has a chocolate coating and peanut butter filling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ost people like Reese peanut butter c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ost of the population liked choco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any people like working with Harry Burnett R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 chocolate was a hit when he made it befor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9c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married and had 16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as born in Frosty Hill in York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as 41 when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died in the year of 1879-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en he died his father took over until 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nd out he was going to die then 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old th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1Z</dcterms:created>
  <dc:creator>install</dc:creator>
  <dc:description/>
  <dc:language>en-US</dc:language>
  <cp:lastModifiedBy>install</cp:lastModifiedBy>
  <dcterms:modified xsi:type="dcterms:W3CDTF">2011-01-14T17:11:22Z</dcterms:modified>
  <cp:revision>9</cp:revision>
  <dc:subject/>
  <dc:title>Slide 1</dc:title>
</cp:coreProperties>
</file>